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13.gif" ContentType="image/gif"/>
  <Override PartName="/ppt/media/image1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22.jpeg" ContentType="image/jpeg"/>
  <Override PartName="/ppt/media/image1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2381-8C7F-48B8-BED0-1EF317D18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C9FB-9F27-480D-BFD8-1DB3094B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2B09-C72A-4548-B96D-AE5AA9161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FB1A-A173-49E3-B904-A23F4CFE3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B908-05BA-46BA-8D9B-6AEF30FF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AE5D-9C04-44AE-B3D3-16BFEB62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0748-2DA4-440E-A702-5D52C742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1982-06C0-4BC2-A7FD-C44D420A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D107-E5B1-4AAE-ACD6-0B0FE870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604E-28F3-4C13-A248-A624EBA7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ADF2-8BA3-4600-B6ED-1BE7925D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4858-29C1-4B27-882F-A3B07E4A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7F9F-55E1-4C6C-8C53-EEFA00FCFD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409680" y="511200"/>
            <a:ext cx="81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Bookman Old Style"/>
              </a:rPr>
              <a:t>ХОЛОКОСТ: память и предупрежд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684360" y="1155600"/>
            <a:ext cx="8135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Bookman Old Style"/>
              </a:rPr>
              <a:t>27 января, день освобождения концлагеря «Освенцим» -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Bookman Old Style"/>
              </a:rPr>
              <a:t>	</a:t>
            </a:r>
            <a:r>
              <a:rPr b="1" lang="ru-RU" sz="2000" spc="-1" strike="noStrike">
                <a:solidFill>
                  <a:srgbClr val="ffc000"/>
                </a:solidFill>
                <a:latin typeface="Bookman Old Style"/>
              </a:rPr>
              <a:t>Международный день памяти жертв Холокос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Bookman Old Style"/>
              </a:rPr>
              <a:t>Это день светлой памяти всех узников концлагерей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Bookman Old Style"/>
              </a:rPr>
              <a:t>обречённых на уничтожение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нацизм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C:\Documents and Settings\Анжела Владимировна\Рабочий стол\Без имени-1.png"/>
          <p:cNvPicPr/>
          <p:nvPr/>
        </p:nvPicPr>
        <p:blipFill>
          <a:blip r:embed="rId1">
            <a:grayscl/>
          </a:blip>
          <a:stretch/>
        </p:blipFill>
        <p:spPr>
          <a:xfrm>
            <a:off x="684360" y="3284640"/>
            <a:ext cx="7891200" cy="3170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н любил детей и раздавал им конфеты, отправляя в газовую камеру.  </a:t>
            </a: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«Ангел смерти»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до конца жизни не раскаялся в содеянн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978x"/>
          <p:cNvPicPr/>
          <p:nvPr/>
        </p:nvPicPr>
        <p:blipFill>
          <a:blip r:embed="rId1"/>
          <a:stretch/>
        </p:blipFill>
        <p:spPr>
          <a:xfrm>
            <a:off x="0" y="1844640"/>
            <a:ext cx="4795920" cy="3551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holocaust-auschwitz-childrens-barracks2"/>
          <p:cNvPicPr/>
          <p:nvPr/>
        </p:nvPicPr>
        <p:blipFill>
          <a:blip r:embed="rId2"/>
          <a:stretch/>
        </p:blipFill>
        <p:spPr>
          <a:xfrm>
            <a:off x="4859280" y="3228840"/>
            <a:ext cx="4176720" cy="3510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inet004"/>
          <p:cNvPicPr/>
          <p:nvPr/>
        </p:nvPicPr>
        <p:blipFill>
          <a:blip r:embed="rId3"/>
          <a:stretch/>
        </p:blipFill>
        <p:spPr>
          <a:xfrm>
            <a:off x="3635280" y="2693880"/>
            <a:ext cx="55087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4" descr="inet016.jpg"/>
          <p:cNvPicPr/>
          <p:nvPr/>
        </p:nvPicPr>
        <p:blipFill>
          <a:blip r:embed="rId1"/>
          <a:stretch/>
        </p:blipFill>
        <p:spPr>
          <a:xfrm>
            <a:off x="835200" y="133200"/>
            <a:ext cx="7430760" cy="1062684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5"/>
          <p:cNvSpPr/>
          <p:nvPr/>
        </p:nvSpPr>
        <p:spPr>
          <a:xfrm>
            <a:off x="900000" y="5661000"/>
            <a:ext cx="7301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Жестокие и часто приводящие к смерти антигуманные медицинские эксперименты, которые проводили нацисты над жертвами холокост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ечеловеческие опы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imes New Roman"/>
              </a:rPr>
              <a:t>С 1941 года в лагере испытывались средства для массового уничтожения людей. Это был газ « Циклон Б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800px_Zyklon_B_Container"/>
          <p:cNvPicPr/>
          <p:nvPr/>
        </p:nvPicPr>
        <p:blipFill>
          <a:blip r:embed="rId1"/>
          <a:stretch/>
        </p:blipFill>
        <p:spPr>
          <a:xfrm>
            <a:off x="2627280" y="3213000"/>
            <a:ext cx="52196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27 января 1945 год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советские войска освободили узников Освенци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Точное число жертв Освенцима неизвестно. На Нюрнбергском процессе прозвучало от одного до пяти миллио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В наши дни здесь музей, посвящённый памяти его уз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В 1947 году на территории лагеря был создан музей, который стал Всемирным наследием ЮНЕС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aushviuP"/>
          <p:cNvPicPr/>
          <p:nvPr/>
        </p:nvPicPr>
        <p:blipFill>
          <a:blip r:embed="rId1"/>
          <a:stretch/>
        </p:blipFill>
        <p:spPr>
          <a:xfrm>
            <a:off x="395280" y="1484280"/>
            <a:ext cx="5788080" cy="4753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aushviuO"/>
          <p:cNvPicPr/>
          <p:nvPr/>
        </p:nvPicPr>
        <p:blipFill>
          <a:blip r:embed="rId2"/>
          <a:stretch/>
        </p:blipFill>
        <p:spPr>
          <a:xfrm>
            <a:off x="2987640" y="1461960"/>
            <a:ext cx="6156360" cy="4775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06"/>
          <p:cNvPicPr/>
          <p:nvPr/>
        </p:nvPicPr>
        <p:blipFill>
          <a:blip r:embed="rId3"/>
          <a:stretch/>
        </p:blipFill>
        <p:spPr>
          <a:xfrm>
            <a:off x="1692360" y="1541520"/>
            <a:ext cx="597528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3"/>
          <p:cNvSpPr/>
          <p:nvPr/>
        </p:nvSpPr>
        <p:spPr>
          <a:xfrm>
            <a:off x="365040" y="333360"/>
            <a:ext cx="84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Освенцим каждый год приезжает около миллиона посетителей со всего мира, чтобы почтить память предков, просто увидеть это место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Рисунок 6" descr=""/>
          <p:cNvPicPr/>
          <p:nvPr/>
        </p:nvPicPr>
        <p:blipFill>
          <a:blip r:embed="rId1"/>
          <a:stretch/>
        </p:blipFill>
        <p:spPr>
          <a:xfrm>
            <a:off x="3059280" y="1744560"/>
            <a:ext cx="5905440" cy="31813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7" descr=""/>
          <p:cNvPicPr/>
          <p:nvPr/>
        </p:nvPicPr>
        <p:blipFill>
          <a:blip r:embed="rId2"/>
          <a:stretch/>
        </p:blipFill>
        <p:spPr>
          <a:xfrm>
            <a:off x="395280" y="4005360"/>
            <a:ext cx="378144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амятник жертвам фашизма в Освенц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0_49f14_e8037271_L"/>
          <p:cNvPicPr/>
          <p:nvPr/>
        </p:nvPicPr>
        <p:blipFill>
          <a:blip r:embed="rId1"/>
          <a:stretch/>
        </p:blipFill>
        <p:spPr>
          <a:xfrm>
            <a:off x="611280" y="1628640"/>
            <a:ext cx="799308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79280" y="259920"/>
            <a:ext cx="8640720" cy="6048360"/>
          </a:xfrm>
          <a:prstGeom prst="rect">
            <a:avLst/>
          </a:prstGeom>
          <a:solidFill>
            <a:srgbClr val="544c41"/>
          </a:solidFill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«Холокост» (американизм от древнегреческого Голокаустис -</a:t>
            </a:r>
            <a:br>
              <a:rPr sz="2000"/>
            </a:b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"всесожжение"; уничтожение огнем; жертвоприношение). Впервые это название использовал будущий лауреат Нобелевской премии мира Эли Визель (1928-2016) в начале 1960-х годов как метафору, символизирующую сожжение целого народа в крематориях нацистских лагерей смерти. Под  термином «Холокост» понимается политика и практика нацистской Германии, ее союзников и пособников по преследованию и уничтожению еврейского населения в 1933-1945 гг. Холокост – беспрецедентное явление в новейшей истории человечества. Целью нацистов было тотальное уничтожение евреев не только Германии, но и всего мира. Жертвы не могли спастись, сменив веру или покинув страну, где подвергались преследованиям. Все евреи, независимо от</a:t>
            </a:r>
            <a:br>
              <a:rPr sz="2000"/>
            </a:b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возраста, вероисповедания, политических взглядов, места проживания, были приговорены нацистами к полному уничтожению. Ни один предшествующий геноцид в новой истории не ставил задачу искоренения целого народа. В нацистской идеологии вина еврея была предопределена самим фактом его  рождения. Они должны были полностью исчезнуть с лица земли как</a:t>
            </a:r>
            <a:br>
              <a:rPr sz="2000"/>
            </a:b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биологический вид. Были подготовлены специальные</a:t>
            </a:r>
            <a:br>
              <a:rPr sz="2000"/>
            </a:b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подразделения убийц; созданы лагеря уничтожения; построены газовые камеры для умерщвления жертв и крематории для сжигания трупов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179280" y="476280"/>
            <a:ext cx="885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Результат этой политики - 6 миллионов уничтоженных людей; более</a:t>
            </a:r>
            <a:br>
              <a:rPr sz="2000"/>
            </a:b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половины еврейского населения Европы; треть всего народа. Около 50 % всех жертв Холокоста были гражданами Советского Союза, которых</a:t>
            </a:r>
            <a:br>
              <a:rPr sz="2000"/>
            </a:b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уничтожили в годы Великой Отечественной войны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4140360" y="2457360"/>
            <a:ext cx="4762440" cy="34196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5" descr=""/>
          <p:cNvPicPr/>
          <p:nvPr/>
        </p:nvPicPr>
        <p:blipFill>
          <a:blip r:embed="rId2"/>
          <a:stretch/>
        </p:blipFill>
        <p:spPr>
          <a:xfrm>
            <a:off x="250920" y="2863800"/>
            <a:ext cx="347508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f2513"/>
                </a:solidFill>
                <a:latin typeface="Times New Roman"/>
              </a:rPr>
              <a:t>Холокост. Лагеря смерти</a:t>
            </a:r>
            <a:r>
              <a:rPr b="0" lang="ru-RU" sz="4400" spc="-1" strike="noStrike">
                <a:solidFill>
                  <a:srgbClr val="cf2513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imes New Roman"/>
              </a:rPr>
              <a:t>Для истребления миллионов людей были построены лагеря смер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251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f2513"/>
                </a:solidFill>
                <a:latin typeface="Times New Roman"/>
              </a:rPr>
              <a:t>Освенцим (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ушвиц-Биркена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251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f2513"/>
                </a:solidFill>
                <a:latin typeface="Times New Roman"/>
              </a:rPr>
              <a:t>Бухенвальд, Даха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251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f2513"/>
                </a:solidFill>
                <a:latin typeface="Times New Roman"/>
              </a:rPr>
              <a:t>Заксенхаузе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251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f2513"/>
                </a:solidFill>
                <a:latin typeface="Times New Roman"/>
              </a:rPr>
              <a:t>Собибор, Маутхаузен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251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f2513"/>
                </a:solidFill>
                <a:latin typeface="Times New Roman"/>
              </a:rPr>
              <a:t>Саласпилс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251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f2513"/>
                </a:solidFill>
                <a:latin typeface="Times New Roman"/>
              </a:rPr>
              <a:t>Треблинка ,Майдан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5" descr=""/>
          <p:cNvPicPr/>
          <p:nvPr/>
        </p:nvPicPr>
        <p:blipFill>
          <a:blip r:embed="rId1"/>
          <a:stretch/>
        </p:blipFill>
        <p:spPr>
          <a:xfrm>
            <a:off x="5867280" y="3862440"/>
            <a:ext cx="23338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27280" y="260280"/>
            <a:ext cx="4392360" cy="511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imes New Roman"/>
              </a:rPr>
              <a:t>Один из крупных концлагерей. Это был целый комплекс на юге Польши.</a:t>
            </a: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Times New Roman"/>
              </a:rPr>
              <a:t>По последним данным в лагерях Освенцим было умертвлено около </a:t>
            </a: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Times New Roman"/>
              </a:rPr>
              <a:t> пяти  млн.человек</a:t>
            </a:r>
            <a:r>
              <a:rPr b="1" lang="ru-RU" sz="3200" spc="-1" strike="noStrike">
                <a:solidFill>
                  <a:srgbClr val="ff66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22391"/>
          <p:cNvPicPr/>
          <p:nvPr/>
        </p:nvPicPr>
        <p:blipFill>
          <a:blip r:embed="rId1"/>
          <a:stretch/>
        </p:blipFill>
        <p:spPr>
          <a:xfrm>
            <a:off x="324000" y="3213000"/>
            <a:ext cx="3962160" cy="2857680"/>
          </a:xfrm>
          <a:prstGeom prst="rect">
            <a:avLst/>
          </a:prstGeom>
          <a:ln w="0">
            <a:noFill/>
          </a:ln>
        </p:spPr>
      </p:pic>
      <p:sp>
        <p:nvSpPr>
          <p:cNvPr id="53" name="WordArt 7"/>
          <p:cNvSpPr txBox="1"/>
          <p:nvPr/>
        </p:nvSpPr>
        <p:spPr>
          <a:xfrm>
            <a:off x="611280" y="836640"/>
            <a:ext cx="3456000" cy="23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ndantino script"/>
              </a:rPr>
              <a:t>Освенцим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ndantino script"/>
              <a:ea typeface="Andantino script"/>
            </a:endParaRPr>
          </a:p>
        </p:txBody>
      </p:sp>
      <p:pic>
        <p:nvPicPr>
          <p:cNvPr id="54" name="Picture 8" descr="400px-AuschwitzCampEntrance"/>
          <p:cNvPicPr/>
          <p:nvPr/>
        </p:nvPicPr>
        <p:blipFill>
          <a:blip r:embed="rId2"/>
          <a:stretch/>
        </p:blipFill>
        <p:spPr>
          <a:xfrm>
            <a:off x="4356000" y="5229360"/>
            <a:ext cx="4680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На территории лагеря гитлеровцы построили крематории с газовыми камерам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2117868"/>
          <p:cNvPicPr/>
          <p:nvPr/>
        </p:nvPicPr>
        <p:blipFill>
          <a:blip r:embed="rId1"/>
          <a:stretch/>
        </p:blipFill>
        <p:spPr>
          <a:xfrm>
            <a:off x="1692360" y="1268280"/>
            <a:ext cx="626436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2117945"/>
          <p:cNvPicPr/>
          <p:nvPr/>
        </p:nvPicPr>
        <p:blipFill>
          <a:blip r:embed="rId2"/>
          <a:stretch/>
        </p:blipFill>
        <p:spPr>
          <a:xfrm>
            <a:off x="5302080" y="2492280"/>
            <a:ext cx="3841920" cy="4365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2117696"/>
          <p:cNvPicPr/>
          <p:nvPr/>
        </p:nvPicPr>
        <p:blipFill>
          <a:blip r:embed="rId3"/>
          <a:stretch/>
        </p:blipFill>
        <p:spPr>
          <a:xfrm>
            <a:off x="395280" y="2492280"/>
            <a:ext cx="3500280" cy="4365720"/>
          </a:xfrm>
          <a:prstGeom prst="rect">
            <a:avLst/>
          </a:prstGeom>
          <a:ln w="0">
            <a:noFill/>
          </a:ln>
        </p:spPr>
      </p:pic>
      <p:pic>
        <p:nvPicPr>
          <p:cNvPr id="59" name="rekviem.mp3" descr=""/>
          <p:cNvPicPr/>
          <p:nvPr/>
        </p:nvPicPr>
        <p:blipFill>
          <a:blip r:embed="rId4"/>
          <a:stretch/>
        </p:blipFill>
        <p:spPr>
          <a:xfrm>
            <a:off x="285840" y="6215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f2513"/>
                </a:solidFill>
                <a:latin typeface="Times New Roman"/>
              </a:rPr>
              <a:t>Стена смерт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Между блоками находится стена смерти – с 1941 – 1943 год здесь расстреляли несколько тысяч узников.. Теперь это мемориал. Возле него свечи, цветы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стена смерти между 10 и 11 блоками"/>
          <p:cNvPicPr/>
          <p:nvPr/>
        </p:nvPicPr>
        <p:blipFill>
          <a:blip r:embed="rId1"/>
          <a:stretch/>
        </p:blipFill>
        <p:spPr>
          <a:xfrm>
            <a:off x="1908000" y="2781360"/>
            <a:ext cx="5761080" cy="3887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arh109"/>
          <p:cNvPicPr/>
          <p:nvPr/>
        </p:nvPicPr>
        <p:blipFill>
          <a:blip r:embed="rId2"/>
          <a:stretch/>
        </p:blipFill>
        <p:spPr>
          <a:xfrm>
            <a:off x="5867280" y="6308640"/>
            <a:ext cx="212760" cy="287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arh109"/>
          <p:cNvPicPr/>
          <p:nvPr/>
        </p:nvPicPr>
        <p:blipFill>
          <a:blip r:embed="rId3"/>
          <a:stretch/>
        </p:blipFill>
        <p:spPr>
          <a:xfrm>
            <a:off x="6588000" y="6308640"/>
            <a:ext cx="289080" cy="285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arh109"/>
          <p:cNvPicPr/>
          <p:nvPr/>
        </p:nvPicPr>
        <p:blipFill>
          <a:blip r:embed="rId4"/>
          <a:stretch/>
        </p:blipFill>
        <p:spPr>
          <a:xfrm>
            <a:off x="3995640" y="6308640"/>
            <a:ext cx="246240" cy="2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Массовые расстрел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По всей Прибалтике, Украине, Белоруссии, Польше, почти возле каждого небольшого города, возле многих деревень находятся «ямы» - овраги, куда сгоняли и расстреливали мужчин, женщин,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aushviu5"/>
          <p:cNvPicPr/>
          <p:nvPr/>
        </p:nvPicPr>
        <p:blipFill>
          <a:blip r:embed="rId1"/>
          <a:stretch/>
        </p:blipFill>
        <p:spPr>
          <a:xfrm>
            <a:off x="250920" y="2997360"/>
            <a:ext cx="5715000" cy="3714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aushviuH"/>
          <p:cNvPicPr/>
          <p:nvPr/>
        </p:nvPicPr>
        <p:blipFill>
          <a:blip r:embed="rId2"/>
          <a:stretch/>
        </p:blipFill>
        <p:spPr>
          <a:xfrm>
            <a:off x="3429000" y="2924280"/>
            <a:ext cx="5715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Ангел смерт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Йозеф Менгеле – немецкий врач, проводивший опыты на узниках лагеря Освенцим во время Второй мировой войны. Более 40 тысяч человек он отправил в газовые кам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2117771"/>
          <p:cNvPicPr/>
          <p:nvPr/>
        </p:nvPicPr>
        <p:blipFill>
          <a:blip r:embed="rId1"/>
          <a:stretch/>
        </p:blipFill>
        <p:spPr>
          <a:xfrm>
            <a:off x="1476360" y="3429000"/>
            <a:ext cx="57150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5:02:07Z</dcterms:created>
  <dc:creator>Сафрыгин Б.Б.</dc:creator>
  <dc:description/>
  <dc:language>en-US</dc:language>
  <cp:lastModifiedBy>user</cp:lastModifiedBy>
  <dcterms:modified xsi:type="dcterms:W3CDTF">2023-01-17T06:39:32Z</dcterms:modified>
  <cp:revision>35</cp:revision>
  <dc:subject/>
  <dc:title>27 янавря-день памяти Холокоста</dc:title>
</cp:coreProperties>
</file>